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756-9FC2-4001-83CC-A5C17795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414-2241-41C8-933A-F240DA64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39D-C206-42E7-9339-1D11B4BB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575-96A6-43C7-8131-8EA7BC62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754-A97D-44C8-9A03-D082AC6F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C2D-29F1-423B-A401-41A4F0A7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1A9-FB78-4F70-B0E1-2084CF8F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A5F-02AE-40BD-9C48-3F3CC548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CE1-1ACB-4772-8A21-E9C3D75A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DD8-BBBE-42BF-BE2F-03B2BDA0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84A-A594-4B2F-89E2-9897BC7C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DF5-E305-4A4E-8B72-CA73D8FC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C49B-9D43-4F67-B3B1-BD17B58886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07920"/>
            <a:ext cx="482292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oper Black"/>
              </a:rPr>
              <a:t>COMPRENSION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Cooper Black"/>
              </a:rPr>
              <a:t>DE 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Cooper Black"/>
              </a:rPr>
              <a:t>TEXTO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oper Black"/>
              </a:rPr>
              <a:t>Para empez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-Alcanzar la comprensión de un texto no obedece a reglas fi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-No hay un tiempo establecido en el cual se pueda lograr dicha compren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-La captación de un texto se debe a un ejercicio de lectura que lo facil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-Estructurar los textos y buscar ideas principales, permite al estudiante estudiar un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Forte"/>
              </a:rPr>
              <a:t>Parcialización del 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-Es conveniente dividir los el texto en bloq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-Los bloques se deben tratar por separado para lograr su posterior asimilació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oper Black"/>
              </a:rPr>
              <a:t>Rescatar la idea 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-Para lograr una comprensión del texto se debe buscar una idea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-Puede hallarse al inicio, a la mitad o al final del párra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-Algunos párrafos son complementarios, no siempre tienen una idea princip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Forte"/>
              </a:rPr>
              <a:t>Cómo obtener la idea princip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-La repetición de una palabra o frase marcan las primeras pautas de la idea principal de un texto leí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-Prestar atención a repetición de sinónimos y frases complementarias que reafirman de aquella frase o palab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-Al realizar una lectura por párrafos se deben ir relacionando las ideas principales de cada uno de éstos, para luego encadenarlos con la idea principal del capítulo al que pertenecen y luego unirlos hasta alcanzar la idea general del te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-Apuntar los conceptos principales de cada lectura, teniéndolos como ayuda mem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21:13:58Z</dcterms:created>
  <dc:creator>Jorge Pacheco</dc:creator>
  <dc:description/>
  <dc:language>en-US</dc:language>
  <cp:lastModifiedBy>jorge</cp:lastModifiedBy>
  <dcterms:modified xsi:type="dcterms:W3CDTF">2012-04-03T19:26:21Z</dcterms:modified>
  <cp:revision>3</cp:revision>
  <dc:subject/>
  <dc:title>COMPRENSION  DE   TEXTO</dc:title>
</cp:coreProperties>
</file>