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E06E8-AAD5-495E-9BDB-F5A183F4A1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32C1B-FC0C-438C-97F5-372642417E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2EC93-655B-4781-AB84-A5C9A3D255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7BE38-582A-4C93-B5E0-68C5F18E46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B924B-31B2-4019-A407-E24DAAF4D1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AE4B9-02F1-43F0-9819-8670A64BD9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F418F-78EE-4BB4-B37D-2FB2B3ED7C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521FC-478D-4B8D-891A-8A9380CDE3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90AE1-BF00-43A5-8046-D712316024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FDB7F-987E-4CFA-ACAF-61C7D4D78E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54A8D-1933-481B-B540-CAB4DBA734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63D9E-C13E-4AA3-9923-3993AB7465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s-E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52B8F8B-BB02-43AE-AF6E-CFEB0E850051}" type="slidenum">
              <a:rPr b="0" lang="es-E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907920"/>
            <a:ext cx="482292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Cooper Black"/>
              </a:rPr>
              <a:t>COMPRENSION</a:t>
            </a: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ooper Black"/>
              </a:rPr>
              <a:t>DE </a:t>
            </a: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Cooper Black"/>
              </a:rPr>
              <a:t>TEXTO</a:t>
            </a: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ooper Black"/>
              </a:rPr>
              <a:t>Para empeza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-Alcanzar la comprensión de un texto no obedece a reglas fij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-No hay un tiempo establecido en el cual se pueda lograr dicha comprens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-La captación de un texto se debe a un ejercicio de lectura que lo facil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-Estructurar los textos y buscar ideas principales, permite al estudiante estudiar un 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Forte"/>
              </a:rPr>
              <a:t>Parcialización del tex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-Es conveniente dividir los el texto en bloq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-Los bloques se deben tratar por separado para lograr su posterior asimilación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Cooper Black"/>
              </a:rPr>
              <a:t>Rescatar la idea princip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-Para lograr una comprensión del texto se debe buscar una idea princip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-Puede hallarse al inicio, a la mitad o al final del párraf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-Algunos párrafos son complementarios, no siempre tienen una idea princip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3032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Forte"/>
              </a:rPr>
              <a:t>Cómo obtener la idea principal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-La repetición de una palabra o frase marcan las primeras pautas de la idea principal de un texto leí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-Prestar atención a repetición de sinónimos y frases complementarias que reafirman de aquella frase o palab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-Al realizar una lectura por párrafos se deben ir relacionando las ideas principales de cada uno de éstos, para luego encadenarlos con la idea principal del capítulo al que pertenecen y luego unirlos hasta alcanzar la idea general del tex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-Apuntar los conceptos principales de cada lectura, teniéndolos como ayuda mem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21:13:58Z</dcterms:created>
  <dc:creator>Jorge Pacheco</dc:creator>
  <dc:description/>
  <dc:language>en-US</dc:language>
  <cp:lastModifiedBy>jorge</cp:lastModifiedBy>
  <dcterms:modified xsi:type="dcterms:W3CDTF">2012-04-03T19:26:21Z</dcterms:modified>
  <cp:revision>3</cp:revision>
  <dc:subject/>
  <dc:title>COMPRENSION  DE   TEXTO</dc:title>
</cp:coreProperties>
</file>